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B5868-93BA-407F-9F6B-1FFC13AE6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E232A-6AE5-4E35-8F60-8778B148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3E7F3-7792-4BFC-B82A-1E3FBEB72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30B74-A3D3-4AC0-B35F-CAA8C1821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E7AB-9E5C-44D7-8387-0B0EFD9D8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3EC28-E4BB-4CB4-9043-4C02D6C2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7193C-F29C-441C-A1B4-7946F8DA8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0C723-4E5C-4207-890A-0C699D1E9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E58F6-BEA0-402B-A9E2-FEFB95990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03FB0-0260-4599-988E-5142C7A7E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68D3-B376-4604-8E94-B6EA8DBC6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EDF53-4E4F-4737-BE7F-49ED7D57E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A6B1-FDDE-4D98-BF44-65A4FBEB44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295280"/>
            <a:ext cx="899172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Matura MT Script Capitals"/>
              </a:rPr>
              <a:t>Scenario 3:</a:t>
            </a:r>
            <a:endParaRPr b="0" lang="en-US" sz="10000" spc="-1" strike="noStrike">
              <a:solidFill>
                <a:srgbClr val="000000"/>
              </a:solidFill>
              <a:latin typeface="Calibri"/>
            </a:endParaRPr>
          </a:p>
        </p:txBody>
      </p:sp>
      <p:sp>
        <p:nvSpPr>
          <p:cNvPr id="42" name=""/>
          <p:cNvSpPr txBox="1"/>
          <p:nvPr/>
        </p:nvSpPr>
        <p:spPr>
          <a:xfrm>
            <a:off x="457200" y="2819160"/>
            <a:ext cx="8229600" cy="1600200"/>
          </a:xfrm>
          <a:prstGeom prst="rect">
            <a:avLst/>
          </a:prstGeom>
          <a:noFill/>
          <a:ln w="0">
            <a:noFill/>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Copperplate Gothic Bold"/>
              </a:rPr>
              <a:t>Office services</a:t>
            </a:r>
            <a:endParaRPr b="0" lang="en-US" sz="60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opperplate Gothic Bold"/>
              </a:rPr>
              <a:t>Critical thinking and systems thinking</a:t>
            </a:r>
            <a:endParaRPr b="0" lang="en-US" sz="4400" spc="-1" strike="noStrike">
              <a:solidFill>
                <a:srgbClr val="000000"/>
              </a:solidFill>
              <a:latin typeface="Calibri"/>
            </a:endParaRPr>
          </a:p>
        </p:txBody>
      </p:sp>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pperplate Gothic Bold"/>
              </a:rPr>
              <a:t>Self-direction</a:t>
            </a:r>
            <a:endParaRPr b="0" lang="en-US" sz="44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Matura MT Script Capitals"/>
              </a:rPr>
              <a:t>Members:</a:t>
            </a:r>
            <a:endParaRPr b="0" lang="en-US" sz="6500" spc="-1" strike="noStrike">
              <a:solidFill>
                <a:srgbClr val="000000"/>
              </a:solidFill>
              <a:latin typeface="Calibri"/>
            </a:endParaRPr>
          </a:p>
        </p:txBody>
      </p:sp>
      <p:sp>
        <p:nvSpPr>
          <p:cNvPr id="54" name=""/>
          <p:cNvSpPr txBox="1"/>
          <p:nvPr/>
        </p:nvSpPr>
        <p:spPr>
          <a:xfrm>
            <a:off x="1523520" y="1600200"/>
            <a:ext cx="6629400" cy="4525920"/>
          </a:xfrm>
          <a:prstGeom prst="rect">
            <a:avLst/>
          </a:prstGeom>
          <a:noFill/>
          <a:ln w="0">
            <a:noFill/>
          </a:ln>
        </p:spPr>
        <p:txBody>
          <a:bodyPr anchor="t">
            <a:normAutofit/>
          </a:bodyPr>
          <a:p>
            <a:pPr marL="343080" indent="-343080">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Copperplate Gothic Bold"/>
              </a:rPr>
              <a:t>Virna Fe Gumia</a:t>
            </a:r>
            <a:endParaRPr b="0" lang="en-US" sz="3200" spc="-1" strike="noStrike">
              <a:solidFill>
                <a:srgbClr val="000000"/>
              </a:solidFill>
              <a:latin typeface="Calibri"/>
            </a:endParaRPr>
          </a:p>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pperplate Gothic Bold"/>
              </a:rPr>
              <a:t>Precious Kyrie Undag</a:t>
            </a:r>
            <a:endParaRPr b="0" lang="en-US" sz="3200" spc="-1" strike="noStrike">
              <a:solidFill>
                <a:srgbClr val="000000"/>
              </a:solidFill>
              <a:latin typeface="Calibri"/>
            </a:endParaRPr>
          </a:p>
          <a:p>
            <a:pPr marL="343080" indent="-343080">
              <a:lnSpc>
                <a:spcPct val="100000"/>
              </a:lnSpc>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Copperplate Gothic Bold"/>
              </a:rPr>
              <a:t>Hannah Faith Tormis</a:t>
            </a:r>
            <a:endParaRPr b="0" lang="en-US" sz="3200" spc="-1" strike="noStrike">
              <a:solidFill>
                <a:srgbClr val="000000"/>
              </a:solidFill>
              <a:latin typeface="Calibri"/>
            </a:endParaRPr>
          </a:p>
          <a:p>
            <a:pPr marL="343080" indent="-343080">
              <a:lnSpc>
                <a:spcPct val="100000"/>
              </a:lnSpc>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pperplate Gothic Bold"/>
              </a:rPr>
              <a:t>Clarence Dale Mosqueda</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pperplate Gothic Bold"/>
              </a:rPr>
              <a:t>Karla Gumanao</a:t>
            </a:r>
            <a:endParaRPr b="0" lang="en-US" sz="3200" spc="-1" strike="noStrike">
              <a:solidFill>
                <a:srgbClr val="000000"/>
              </a:solidFill>
              <a:latin typeface="Calibri"/>
            </a:endParaRPr>
          </a:p>
        </p:txBody>
      </p:sp>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8077320" cy="64767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WorldScribe Technologies Limited (WSTL) is a Business Process Outsourcing (BPO) company that provides the Industry’s fastest and most comprehensive written records of meetings, legal proceedings, and conferences. The firm employs 24 people, including six transcribers, but today only four of the transcribers are available. The transcriber’s job is to decipher tapes received from stenographers and recorders and create a written record. Accuracy and timeliness are critical elements of the transcriber’s work which under girds the firm’s success. </a:t>
            </a:r>
            <a:endParaRPr b="0" lang="en-US" sz="2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1" lang="en-US" sz="2700" spc="-1" strike="noStrike">
                <a:solidFill>
                  <a:srgbClr val="c00000"/>
                </a:solidFill>
                <a:latin typeface="Courier New"/>
                <a:ea typeface="Courier New"/>
              </a:rPr>
              <a:t>Nisha is a top-notch transcriber at WSTL. This has been a particularly busy week, and today she has six tapes in various stages of conversation. Three of the clients have asked for their documentation by the following morning. One law firm has a court case approaching. The minutes of a controversial school board budget hearing are to be delivered to the local university (one of WSTL’s largest clients) wants immediate service on the tapes of a book she is dictating, regardless of how many other clients are inconvenienced. </a:t>
            </a:r>
            <a:endParaRPr b="0" lang="en-US" sz="2700" spc="-1" strike="noStrike">
              <a:solidFill>
                <a:srgbClr val="000000"/>
              </a:solidFill>
              <a:latin typeface="Calibri"/>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68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Nisha doesn’t think she can finish all the tapes on time and goes to Thomas,her supervisor, to discuss the problem and possible solutions. She and Thomas decide to call in a freelance transcriber they have hired previously to work with legal clients. Nisha then calls the school board president and the local newspaper. She arranges to have the minutes reviewed that evening by school board staff so that she can make corrections and deliver them to the newspaper by the editor’s “drop-dead” deadline.</a:t>
            </a:r>
            <a:endParaRPr b="0" lang="en-US" sz="26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763120" cy="66294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She is able to reach the university president with whom she discusses her time constraints and negotiates a reprieve. Nisha works out a schedule whereby she will have the president’s transcript ready two days later by 4:00 p.m. After finishing her scheduled daily work, Nisha looks over the first draft of a new transcriber hired to work exclusively with a local teaching hospital to determine if his knowledge of medical terms is adequate. Otherwise, he will be sent to a specialized training course. Nisha tells Thomas that, in her opinion, they have hired the right person and no further training is needed. </a:t>
            </a:r>
            <a:endParaRPr b="0" lang="en-US" sz="2600" spc="-1" strike="noStrike">
              <a:solidFill>
                <a:srgbClr val="000000"/>
              </a:solidFill>
              <a:latin typeface="Calibri"/>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04920"/>
            <a:ext cx="8839440" cy="640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99"/>
                </a:solidFill>
                <a:latin typeface="Matura MT Script Capitals"/>
                <a:ea typeface="Aharoni"/>
              </a:rPr>
              <a:t>The 21</a:t>
            </a:r>
            <a:r>
              <a:rPr b="0" lang="en-US" sz="8000" spc="-1" strike="noStrike" baseline="30000">
                <a:solidFill>
                  <a:srgbClr val="ff3399"/>
                </a:solidFill>
                <a:latin typeface="Matura MT Script Capitals"/>
                <a:ea typeface="Aharoni"/>
              </a:rPr>
              <a:t>st</a:t>
            </a:r>
            <a:r>
              <a:rPr b="0" lang="en-US" sz="8000" spc="-1" strike="noStrike">
                <a:solidFill>
                  <a:srgbClr val="ff3399"/>
                </a:solidFill>
                <a:latin typeface="Matura MT Script Capitals"/>
                <a:ea typeface="Aharoni"/>
              </a:rPr>
              <a:t> century </a:t>
            </a:r>
            <a:br>
              <a:rPr sz="8000"/>
            </a:br>
            <a:r>
              <a:rPr b="0" lang="en-US" sz="8000" spc="-1" strike="noStrike">
                <a:solidFill>
                  <a:srgbClr val="ffff00"/>
                </a:solidFill>
                <a:latin typeface="Matura MT Script Capitals"/>
                <a:ea typeface="Aharoni"/>
              </a:rPr>
              <a:t>skills</a:t>
            </a:r>
            <a:r>
              <a:rPr b="0" lang="en-US" sz="8000" spc="-1" strike="noStrike">
                <a:solidFill>
                  <a:srgbClr val="ff3399"/>
                </a:solidFill>
                <a:latin typeface="Matura MT Script Capitals"/>
                <a:ea typeface="Aharoni"/>
              </a:rPr>
              <a:t> </a:t>
            </a:r>
            <a:br>
              <a:rPr sz="8000"/>
            </a:br>
            <a:r>
              <a:rPr b="0" lang="en-US" sz="8000" spc="-1" strike="noStrike">
                <a:solidFill>
                  <a:srgbClr val="7030a0"/>
                </a:solidFill>
                <a:latin typeface="Matura MT Script Capitals"/>
                <a:ea typeface="Aharoni"/>
              </a:rPr>
              <a:t>needed in the</a:t>
            </a:r>
            <a:br>
              <a:rPr sz="8000"/>
            </a:br>
            <a:r>
              <a:rPr b="0" lang="en-US" sz="8000" spc="-1" strike="noStrike">
                <a:solidFill>
                  <a:srgbClr val="00b0f0"/>
                </a:solidFill>
                <a:latin typeface="Matura MT Script Capitals"/>
                <a:ea typeface="Aharoni"/>
              </a:rPr>
              <a:t> scenario:</a:t>
            </a:r>
            <a:endParaRPr b="0" lang="en-US" sz="80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133360"/>
            <a:ext cx="8229600" cy="2361960"/>
          </a:xfrm>
          <a:prstGeom prst="rect">
            <a:avLst/>
          </a:prstGeom>
          <a:noFill/>
          <a:ln w="0">
            <a:noFill/>
          </a:ln>
        </p:spPr>
        <p:txBody>
          <a:bodyPr anchor="t">
            <a:normAutofit/>
          </a:bodyPr>
          <a:p>
            <a:pPr marL="343080" indent="-343080" algn="ct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ACCOUNTABILITY AND ADAP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90360"/>
            <a:ext cx="8229600" cy="42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6c0a"/>
                </a:solidFill>
                <a:latin typeface="Copperplate Gothic Bold"/>
              </a:rPr>
              <a:t>Problem Identification, formulation and solution.</a:t>
            </a:r>
            <a:endParaRPr b="0" lang="en-US" sz="4400" spc="-1" strike="noStrike">
              <a:solidFill>
                <a:srgbClr val="000000"/>
              </a:solidFill>
              <a:latin typeface="Calibri"/>
            </a:endParaRPr>
          </a:p>
        </p:txBody>
      </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142640"/>
            <a:ext cx="822960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pperplate Gothic Bold"/>
              </a:rPr>
              <a:t>Interpersonal and Collaborative Skills</a:t>
            </a:r>
            <a:endParaRPr b="0" lang="en-US" sz="4400" spc="-1" strike="noStrike">
              <a:solidFill>
                <a:srgbClr val="000000"/>
              </a:solidFill>
              <a:latin typeface="Calibri"/>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06:36Z</dcterms:created>
  <dc:creator>user</dc:creator>
  <dc:description/>
  <dc:language>en-US</dc:language>
  <cp:lastModifiedBy>Karlaangela0119</cp:lastModifiedBy>
  <dcterms:modified xsi:type="dcterms:W3CDTF">2012-06-28T14:53:37Z</dcterms:modified>
  <cp:revision>15</cp:revision>
  <dc:subject/>
  <dc:title>Scenario 3:</dc:title>
</cp:coreProperties>
</file>